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5DF4-4050-47CC-9730-44FCE8D3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556-0B24-4F3F-9D9A-4061AB679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D23-6F31-4C2B-8D93-C8604093C5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998D-64EC-4B25-BCD6-602AB2021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E483-624A-4346-96F3-F71FAD869C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3B8F-A732-4CBF-B427-156379036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E8AD-26E0-4D92-9176-31A512C3B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35E1-F402-4979-8C84-F3C889F30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311-1403-4079-9D53-FB1DE6EE4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F055-F7C4-42DE-BBD5-3504C51FB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20E6-6FA0-4598-A8B4-418059C82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C6D-9B97-4BC7-AE5D-0DEF2482E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CF3-150D-4F29-883D-EEBB9532B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586-08A3-482D-901D-13F38A55B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9F52-467D-48EF-9407-E86DBA5AC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285-0F05-42D4-AE52-643915B4E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9A8-CF1F-4AFD-8832-F0F75D14B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871E-5EA8-4CF8-B9D5-ED2068142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C5D-40BA-46B6-9338-63CB79BE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3A0-EFEC-4D72-AF35-4EE8E30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10A-BCBF-4181-8803-B7A74854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EE7-58F5-4414-95A1-71BA4269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D75B-9BED-4486-A1C3-2FAF4C2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9804-C644-4B34-8B1E-2C798AB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1F00-B5B5-4A1F-96CB-7DE0D5C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14FB-B867-4DA0-8426-3FC5F0F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BD86-2095-426B-9D68-74CC5BF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FB7-02D7-4D95-AC3E-5277307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8E90-DAAC-4A4A-82D7-053C11E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C87-7B60-412B-8407-943AA86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5D1-3AD0-48A1-A41B-C836787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ACA-2142-40CA-A5C8-FFD1001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FE9-14C8-4ECF-B4ED-832A1280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7D5C-E2C5-422D-95C0-1C890A55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9995-066F-41FA-8C26-103E3CB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C71-A6A0-4B21-8FC0-BE0FD5D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9F1-3BC4-4A89-BB15-0B04D26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7B9-E4DC-4F8F-AED1-BF13EA5B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5BF-1A6F-45CA-AA00-AF972A84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5F7-6AC8-4920-B178-8BBC73A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6C3-E1F2-4F75-8AB2-54E6B24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00A-9EFF-47C2-95D9-A9317F7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C418-5E99-4C62-BE5B-7B3B307BF4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7C79-2469-47CE-933D-C4D4D9A603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newablefeed.googlepages.com/biofuels_gaspump.jpg/biofuels_gaspump-full;init: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Biofuel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ffany Mor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na Sav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a Wa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biofuel_bubbles_28665a"/>
          <p:cNvPicPr/>
          <p:nvPr/>
        </p:nvPicPr>
        <p:blipFill>
          <a:blip r:embed="rId1"/>
          <a:stretch/>
        </p:blipFill>
        <p:spPr>
          <a:xfrm>
            <a:off x="2971800" y="1447920"/>
            <a:ext cx="33717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– the problem is, fossil fuels are used to FARM the crops and made into biofu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, are biofuels carbon neutra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533840" cy="34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2511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diesel made from oils of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 vegetable o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ke from McDonal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Seed Pla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ol made from fermented plant sugars and st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ol is a very strong alcoh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de Fro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7180200" y="1905120"/>
            <a:ext cx="196380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6858000" y="4952880"/>
            <a:ext cx="2286000" cy="17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5943600" y="4419720"/>
            <a:ext cx="1515960" cy="193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7315200" y="228600"/>
            <a:ext cx="16002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ducers of Ethon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04920" y="1371600"/>
            <a:ext cx="51051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762120" y="1371600"/>
            <a:ext cx="472428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rica mainly uses Co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mount of fuel and oil needed to use ethanol is greater than the value of energy ethanol provid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finitely makes more sense to switch source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asoline along with  other oils and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corn, 1.76 gallons of gasoline= 2.66 gallons of 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biofuels should be made of the best resources: cellulosic bio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chips, trash, and switch gr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5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27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uzzle.com/articles/advantages-and-disadvantages-of-biofuel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dpedia.com/re/be/adv/adv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discovermagazine.com/2008/oct/03-anything-into-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newfarm.rodaleinstitute.org/news/2005/0705/070705/ethanol.shtmlhttp://ezinearticles.com/?Carbon-Neutral---What-Does-It-Mean?&amp;id=33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lternativefuels.about.com/od/ethanol/a/whatsethan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habmigern2003.info/biogas/biofuels.htm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iodiesel.org/markets/pa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journeytoforever.org/ethano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are Biofuels used for and what are they made from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d For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 and Eth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Fuels used to run cars and diesel eng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Used as an alternative source of gaso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65dieselengine"/>
          <p:cNvPicPr/>
          <p:nvPr/>
        </p:nvPicPr>
        <p:blipFill>
          <a:blip r:embed="rId1"/>
          <a:stretch/>
        </p:blipFill>
        <p:spPr>
          <a:xfrm>
            <a:off x="3733920" y="4767120"/>
            <a:ext cx="2438280" cy="209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42670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095880" y="4030560"/>
            <a:ext cx="2438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rce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United States made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orn, switchgrass, and soyb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urope made fro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Rapeseed, wheat, and sugar b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Brazil made from: sugar ca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371600" cy="20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7767720" y="1752480"/>
            <a:ext cx="13762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173988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5"/>
          <a:stretch/>
        </p:blipFill>
        <p:spPr>
          <a:xfrm>
            <a:off x="7848720" y="4114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28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7"/>
          <a:stretch/>
        </p:blipFill>
        <p:spPr>
          <a:xfrm>
            <a:off x="6858000" y="574992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b2b2b2"/>
                </a:solidFill>
                <a:latin typeface="comic"/>
              </a:rPr>
              <a:t>Biodiesel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0" y="1905120"/>
            <a:ext cx="47242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is a clean alternative fuel, which is produced from domestic, renewable 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t is also a chemical process that separates “glycerine” and methyl esters from fats and vegetable o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t is non-petroleum diesel and is biodegradable, non-toxic, and free of sulfur and aromat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can work in any diesel engine and is more efficient than regular gasolin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he chemical formula for biodiesel is B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1447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Biodies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38680" y="1447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dif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791320" y="20574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95880" y="2133720"/>
            <a:ext cx="259092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Modifications for biodiesel run according to the vehi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Modifications are only necessary for some vehicles, other are not u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724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hanol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What is ethan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thanol gas, also known as “ethyl alcohol”, is an alternative fuel fermented from corn, grains or agriculture waste or it is chemically extracted from ethyl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t is a clear, colorless, liquid with an odor and t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t is drinkable and the ingredient for beer and w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r vehicles, it is a high performance motor fuel, so it is good for the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he chemical formula for ethanol is C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419720" y="1752480"/>
            <a:ext cx="2895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odiesel and ethanol are made from two different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odiesel is made from oil and fats, and ethanol is made from sugar crops like sugar cane, and st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itives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produces 78% less carbon dioxide (CO2) than normal diesel fu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can be used in all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reduce greenhouse gas emiss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degrad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tox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s job opportunies in the rural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ew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s last longer when using i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diesel is classified as a non-flammable liquid aka pure biodiesel far safer in an accident than gasolin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biofuels_gaspump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1295280"/>
            <a:ext cx="18572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bio-fuel_530"/>
          <p:cNvPicPr/>
          <p:nvPr/>
        </p:nvPicPr>
        <p:blipFill>
          <a:blip r:embed="rId3"/>
          <a:stretch/>
        </p:blipFill>
        <p:spPr>
          <a:xfrm>
            <a:off x="5791320" y="3962520"/>
            <a:ext cx="292248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thanol"/>
          <p:cNvPicPr/>
          <p:nvPr/>
        </p:nvPicPr>
        <p:blipFill>
          <a:blip r:embed="rId4"/>
          <a:stretch/>
        </p:blipFill>
        <p:spPr>
          <a:xfrm>
            <a:off x="5105520" y="1295280"/>
            <a:ext cx="203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2" descr="http://knol.google.com/k/-/-/oml631csgjs7/atudef/biodiesel-chart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gatives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rder to harvest, the tractor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ssil fuels, which are harmfu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ing Cars vs Feeding People;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mited resour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ss l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animals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ing to pay for car adju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biofuels-good-or-bad"/>
          <p:cNvPicPr/>
          <p:nvPr/>
        </p:nvPicPr>
        <p:blipFill>
          <a:blip r:embed="rId1"/>
          <a:stretch/>
        </p:blipFill>
        <p:spPr>
          <a:xfrm>
            <a:off x="4495680" y="809640"/>
            <a:ext cx="4478400" cy="30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iofuels-cartoon"/>
          <p:cNvPicPr/>
          <p:nvPr/>
        </p:nvPicPr>
        <p:blipFill>
          <a:blip r:embed="rId2"/>
          <a:stretch/>
        </p:blipFill>
        <p:spPr>
          <a:xfrm>
            <a:off x="4495680" y="3882960"/>
            <a:ext cx="4399200" cy="29750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533160" y="6296040"/>
            <a:ext cx="358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cupblog.files.wordpress.com/2008/08/ethanol-effect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Biofuels Carbon Neutra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8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83544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0" y="40384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1: When Biofuels are burned they release Carbon (CO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2: The carbon is than released back into the atmosphere where plants convert the carbon into plant material like glucose; which is done through photosynth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asically Carbon is removed from the atmosphere, stored in plants and then released  when the biofuels are bur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* For every gram of carbon released when burned by a biofuel equals a gram of carbon being removed from the atmosphere by photosynth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3:01:30Z</dcterms:created>
  <dc:creator>sasd</dc:creator>
  <dc:description/>
  <dc:language>en-US</dc:language>
  <cp:lastModifiedBy>SASD</cp:lastModifiedBy>
  <dcterms:modified xsi:type="dcterms:W3CDTF">2009-04-28T13:35:41Z</dcterms:modified>
  <cp:revision>54</cp:revision>
  <dc:subject/>
  <dc:title>Biofuels</dc:title>
</cp:coreProperties>
</file>